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7F56D-8742-4D56-8A64-A9A24ADE5367}" type="slidenum">
              <a:rPr b="0" lang="en-I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DB8EF-F0AC-437B-BECD-15A23AE313F4}" type="slidenum">
              <a:rPr b="0" lang="en-I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28372-C223-4E45-AC23-C14597EAAE89}" type="slidenum">
              <a:rPr b="0" lang="en-I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A429E-73B3-4136-B64E-A15B9D957641}" type="slidenum">
              <a:rPr b="0" lang="en-I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95F7-A611-4CFA-81AD-DFFE1739A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684A-A380-4AF8-B98A-83BE19DA0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DFE4-050E-4B5F-924E-014DB317C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6472-1B65-4A62-92AC-41EA04D6B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1D2D-D3AD-4014-A8B2-96FAE963A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88D8-67D7-4B49-89A7-CAF76DDB3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B7C6-D441-4C7E-A4FC-6DEDD08C4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2C49-547A-48FF-BDE3-6E1A8AAEA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3B2B-C5AF-490D-8D25-8B7D67931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10F3-6347-4970-9162-5E54687A3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2A80-73CC-48D1-932D-BD3AFB25C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68D8-A07B-4207-98E3-CFD991905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EB89A-3497-4383-8D2F-7EEE1C919BA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8169D-1057-4D3F-A24B-498A773D1E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92468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ariff-based competitive bidding for procurement of 2000 MW of solar power in Telangana</a:t>
            </a:r>
            <a:br>
              <a:rPr sz="4000"/>
            </a:b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id Deadline : 15 May 2015, 17:00 H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Arial"/>
                <a:ea typeface="Arial"/>
              </a:rPr>
              <a:t>Authorized Representative: TSSPDC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Arial"/>
                <a:ea typeface="Arial"/>
              </a:rPr>
              <a:t>(Southern Power Distribution Company of Telangana Limited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Arial"/>
                <a:ea typeface="Arial"/>
              </a:rPr>
              <a:t>Procurers: TSSPDCL and TSNPDC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752480" y="5943600"/>
          <a:ext cx="6096240" cy="73188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000"/>
                          </a:solidFill>
                          <a:latin typeface="Calibri"/>
                        </a:rPr>
                        <a:t>Note</a:t>
                      </a:r>
                      <a:r>
                        <a:rPr b="1" lang="en-US" sz="1800" spc="-1" strike="noStrike">
                          <a:solidFill>
                            <a:srgbClr val="ffc000"/>
                          </a:solidFill>
                          <a:latin typeface="Calibri"/>
                        </a:rPr>
                        <a:t>: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he terms and conditions mentioned in this PPT are subject to revised RfS and PPA to be uploaded soo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52280" y="990360"/>
            <a:ext cx="8763120" cy="37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  <a:ea typeface="Arial"/>
              </a:rPr>
              <a:t>All Bid parameters are ranked from lowest to highest and allocation shall start from Bidder with first rank i.e. </a:t>
            </a:r>
            <a:r>
              <a:rPr b="1" lang="en-IN" sz="1800" spc="-1" strike="noStrike">
                <a:solidFill>
                  <a:srgbClr val="000000"/>
                </a:solidFill>
                <a:latin typeface="Arial"/>
                <a:ea typeface="Arial"/>
              </a:rPr>
              <a:t>lowest tariff</a:t>
            </a:r>
            <a:r>
              <a:rPr b="0" lang="en-IN" sz="1800" spc="-1" strike="noStrike">
                <a:solidFill>
                  <a:srgbClr val="000000"/>
                </a:solidFill>
                <a:latin typeface="Arial"/>
                <a:ea typeface="Arial"/>
              </a:rPr>
              <a:t>. In case bid parameters for two bids is the same, then the  bid corresponding to </a:t>
            </a:r>
            <a:r>
              <a:rPr b="1" lang="en-IN" sz="1800" spc="-1" strike="noStrike">
                <a:solidFill>
                  <a:srgbClr val="000000"/>
                </a:solidFill>
                <a:latin typeface="Arial"/>
                <a:ea typeface="Arial"/>
              </a:rPr>
              <a:t>higher offered capacity </a:t>
            </a:r>
            <a:r>
              <a:rPr b="0" lang="en-IN" sz="1800" spc="-1" strike="noStrike">
                <a:solidFill>
                  <a:srgbClr val="000000"/>
                </a:solidFill>
                <a:latin typeface="Arial"/>
                <a:ea typeface="Arial"/>
              </a:rPr>
              <a:t>will be given better rank. If both bid parameter and offered capacity are the same, bidder demonstrating </a:t>
            </a:r>
            <a:r>
              <a:rPr b="1" lang="en-IN" sz="1800" spc="-1" strike="noStrike">
                <a:solidFill>
                  <a:srgbClr val="000000"/>
                </a:solidFill>
                <a:latin typeface="Arial"/>
                <a:ea typeface="Arial"/>
              </a:rPr>
              <a:t>higher net worth </a:t>
            </a:r>
            <a:r>
              <a:rPr b="0" lang="en-IN" sz="1800" spc="-1" strike="noStrike">
                <a:solidFill>
                  <a:srgbClr val="000000"/>
                </a:solidFill>
                <a:latin typeface="Arial"/>
                <a:ea typeface="Arial"/>
              </a:rPr>
              <a:t>is given prefer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  <a:ea typeface="Arial"/>
              </a:rPr>
              <a:t>Multiple Financial Bids can be submitted by the Bidder. But allocation will happen in the stacking order of bid parameter only. Hence a bidder may have more than one position in the ranking order depending on the number of financial bids submit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valuation of Bids and allocation of Interconnection Substations (1/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3600360" y="4038480"/>
            <a:ext cx="1866960" cy="19080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LLU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74680" y="4267080"/>
          <a:ext cx="8443800" cy="2479680"/>
        </p:xfrm>
        <a:graphic>
          <a:graphicData uri="http://schemas.openxmlformats.org/drawingml/2006/table">
            <a:tbl>
              <a:tblPr/>
              <a:tblGrid>
                <a:gridCol w="1785960"/>
                <a:gridCol w="1035000"/>
                <a:gridCol w="917640"/>
                <a:gridCol w="917640"/>
                <a:gridCol w="917280"/>
                <a:gridCol w="917640"/>
                <a:gridCol w="919080"/>
                <a:gridCol w="1033560"/>
              </a:tblGrid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dd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d Parameter (Rs/uni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ered Capac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W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M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M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M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M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 worth  (Rs Cr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 C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 C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da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da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da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da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da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da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da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da92"/>
                    </a:solidFill>
                  </a:tcPr>
                </a:tc>
              </a:tr>
            </a:tbl>
          </a:graphicData>
        </a:graphic>
      </p:graphicFrame>
      <p:sp>
        <p:nvSpPr>
          <p:cNvPr id="78" name="Oval 9"/>
          <p:cNvSpPr/>
          <p:nvPr/>
        </p:nvSpPr>
        <p:spPr>
          <a:xfrm>
            <a:off x="6515280" y="4452840"/>
            <a:ext cx="2171520" cy="1947960"/>
          </a:xfrm>
          <a:prstGeom prst="ellipse">
            <a:avLst/>
          </a:prstGeom>
          <a:noFill/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6"/>
          <p:cNvSpPr/>
          <p:nvPr/>
        </p:nvSpPr>
        <p:spPr>
          <a:xfrm>
            <a:off x="3809880" y="4529160"/>
            <a:ext cx="2133720" cy="1185840"/>
          </a:xfrm>
          <a:prstGeom prst="ellipse">
            <a:avLst/>
          </a:prstGeom>
          <a:noFill/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15295-F16B-4E3A-951D-71A51AF5DF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llustration</a:t>
            </a:r>
            <a:br>
              <a:rPr sz="4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Numbers and values used for substations are purely representativ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CB472-264A-4A7A-88D1-2549401BFF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"/>
          <p:cNvSpPr/>
          <p:nvPr/>
        </p:nvSpPr>
        <p:spPr>
          <a:xfrm>
            <a:off x="122400" y="4716360"/>
            <a:ext cx="8762760" cy="3812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ubstations: (Available capacity/ max capac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19"/>
          <p:cNvGrpSpPr/>
          <p:nvPr/>
        </p:nvGrpSpPr>
        <p:grpSpPr>
          <a:xfrm>
            <a:off x="122400" y="5135400"/>
            <a:ext cx="2087280" cy="1447920"/>
            <a:chOff x="122400" y="5135400"/>
            <a:chExt cx="2087280" cy="1447920"/>
          </a:xfrm>
        </p:grpSpPr>
        <p:sp>
          <p:nvSpPr>
            <p:cNvPr id="85" name="Rectangle 11"/>
            <p:cNvSpPr/>
            <p:nvPr/>
          </p:nvSpPr>
          <p:spPr>
            <a:xfrm>
              <a:off x="122400" y="5135400"/>
              <a:ext cx="20872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Shadnagar </a:t>
              </a: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(150/150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12"/>
            <p:cNvSpPr/>
            <p:nvPr/>
          </p:nvSpPr>
          <p:spPr>
            <a:xfrm>
              <a:off x="122400" y="5439960"/>
              <a:ext cx="20872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20"/>
          <p:cNvGrpSpPr/>
          <p:nvPr/>
        </p:nvGrpSpPr>
        <p:grpSpPr>
          <a:xfrm>
            <a:off x="2346480" y="5135400"/>
            <a:ext cx="2089080" cy="1447920"/>
            <a:chOff x="2346480" y="5135400"/>
            <a:chExt cx="2089080" cy="1447920"/>
          </a:xfrm>
        </p:grpSpPr>
        <p:sp>
          <p:nvSpPr>
            <p:cNvPr id="88" name="Rectangle 13"/>
            <p:cNvSpPr/>
            <p:nvPr/>
          </p:nvSpPr>
          <p:spPr>
            <a:xfrm>
              <a:off x="2346480" y="5135400"/>
              <a:ext cx="20890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eltoor (100/1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14"/>
            <p:cNvSpPr/>
            <p:nvPr/>
          </p:nvSpPr>
          <p:spPr>
            <a:xfrm>
              <a:off x="2346480" y="5439960"/>
              <a:ext cx="20890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21"/>
          <p:cNvGrpSpPr/>
          <p:nvPr/>
        </p:nvGrpSpPr>
        <p:grpSpPr>
          <a:xfrm>
            <a:off x="4572000" y="5135400"/>
            <a:ext cx="2087640" cy="1447920"/>
            <a:chOff x="4572000" y="5135400"/>
            <a:chExt cx="2087640" cy="1447920"/>
          </a:xfrm>
        </p:grpSpPr>
        <p:sp>
          <p:nvSpPr>
            <p:cNvPr id="91" name="Rectangle 15"/>
            <p:cNvSpPr/>
            <p:nvPr/>
          </p:nvSpPr>
          <p:spPr>
            <a:xfrm>
              <a:off x="457200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KM Pally (60/6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16"/>
            <p:cNvSpPr/>
            <p:nvPr/>
          </p:nvSpPr>
          <p:spPr>
            <a:xfrm>
              <a:off x="457200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22"/>
          <p:cNvGrpSpPr/>
          <p:nvPr/>
        </p:nvGrpSpPr>
        <p:grpSpPr>
          <a:xfrm>
            <a:off x="6797520" y="5135400"/>
            <a:ext cx="2087640" cy="1447920"/>
            <a:chOff x="6797520" y="5135400"/>
            <a:chExt cx="2087640" cy="1447920"/>
          </a:xfrm>
        </p:grpSpPr>
        <p:sp>
          <p:nvSpPr>
            <p:cNvPr id="94" name="Rectangle 17"/>
            <p:cNvSpPr/>
            <p:nvPr/>
          </p:nvSpPr>
          <p:spPr>
            <a:xfrm>
              <a:off x="679752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Durshed (50/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8"/>
            <p:cNvSpPr/>
            <p:nvPr/>
          </p:nvSpPr>
          <p:spPr>
            <a:xfrm>
              <a:off x="679752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Rectangle 23"/>
          <p:cNvSpPr/>
          <p:nvPr/>
        </p:nvSpPr>
        <p:spPr>
          <a:xfrm>
            <a:off x="122400" y="304920"/>
            <a:ext cx="8762760" cy="380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idders (Capacity in MW) and their preferred s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5"/>
          <p:cNvSpPr/>
          <p:nvPr/>
        </p:nvSpPr>
        <p:spPr>
          <a:xfrm>
            <a:off x="198360" y="838080"/>
            <a:ext cx="2087640" cy="30492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6"/>
          <p:cNvSpPr/>
          <p:nvPr/>
        </p:nvSpPr>
        <p:spPr>
          <a:xfrm>
            <a:off x="198360" y="1143000"/>
            <a:ext cx="208764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8"/>
          <p:cNvSpPr/>
          <p:nvPr/>
        </p:nvSpPr>
        <p:spPr>
          <a:xfrm>
            <a:off x="24084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9"/>
          <p:cNvSpPr/>
          <p:nvPr/>
        </p:nvSpPr>
        <p:spPr>
          <a:xfrm>
            <a:off x="24084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M P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1"/>
          <p:cNvSpPr/>
          <p:nvPr/>
        </p:nvSpPr>
        <p:spPr>
          <a:xfrm>
            <a:off x="4632480" y="835200"/>
            <a:ext cx="20890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2"/>
          <p:cNvSpPr/>
          <p:nvPr/>
        </p:nvSpPr>
        <p:spPr>
          <a:xfrm>
            <a:off x="4632480" y="1139760"/>
            <a:ext cx="20890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9"/>
          <p:cNvSpPr/>
          <p:nvPr/>
        </p:nvSpPr>
        <p:spPr>
          <a:xfrm>
            <a:off x="198360" y="835200"/>
            <a:ext cx="208764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0"/>
          <p:cNvSpPr/>
          <p:nvPr/>
        </p:nvSpPr>
        <p:spPr>
          <a:xfrm>
            <a:off x="2408400" y="83808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1"/>
          <p:cNvSpPr/>
          <p:nvPr/>
        </p:nvSpPr>
        <p:spPr>
          <a:xfrm>
            <a:off x="4618080" y="838080"/>
            <a:ext cx="208764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le 1"/>
          <p:cNvSpPr/>
          <p:nvPr/>
        </p:nvSpPr>
        <p:spPr>
          <a:xfrm>
            <a:off x="60480" y="723960"/>
            <a:ext cx="2286000" cy="1679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"/>
          <p:cNvSpPr/>
          <p:nvPr/>
        </p:nvSpPr>
        <p:spPr>
          <a:xfrm>
            <a:off x="2577600" y="3220920"/>
            <a:ext cx="42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Shadnagar can accommodate B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0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3"/>
          <p:cNvSpPr/>
          <p:nvPr/>
        </p:nvSpPr>
        <p:spPr>
          <a:xfrm>
            <a:off x="67518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6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D587A-9120-4CFE-8BAA-0FE488F619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76 -1.48148E-006 L 0.0448 0.18125 C 0.05764 0.21968 0.06476 0.27662 0.06476 0.33634 C 0.06476 0.40417 0.05764 0.4581 0.0448 0.49653 L -0.01076 0.67824 E">
                                      <p:cBhvr>
                                        <p:cTn id="12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3"/>
          <p:cNvSpPr/>
          <p:nvPr/>
        </p:nvSpPr>
        <p:spPr>
          <a:xfrm>
            <a:off x="122400" y="4716360"/>
            <a:ext cx="8762760" cy="3812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ubstations: (Available capacity/ max capac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19"/>
          <p:cNvGrpSpPr/>
          <p:nvPr/>
        </p:nvGrpSpPr>
        <p:grpSpPr>
          <a:xfrm>
            <a:off x="122400" y="5135400"/>
            <a:ext cx="2087280" cy="1447920"/>
            <a:chOff x="122400" y="5135400"/>
            <a:chExt cx="2087280" cy="1447920"/>
          </a:xfrm>
        </p:grpSpPr>
        <p:sp>
          <p:nvSpPr>
            <p:cNvPr id="114" name="Rectangle 11"/>
            <p:cNvSpPr/>
            <p:nvPr/>
          </p:nvSpPr>
          <p:spPr>
            <a:xfrm>
              <a:off x="122400" y="5135400"/>
              <a:ext cx="20872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Shadnagar (</a:t>
              </a:r>
              <a:r>
                <a:rPr b="0" lang="en-US" sz="1800" spc="-1" strike="noStrike">
                  <a:solidFill>
                    <a:srgbClr val="ff0000"/>
                  </a:solidFill>
                  <a:latin typeface="Calibri"/>
                </a:rPr>
                <a:t>70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/1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2"/>
            <p:cNvSpPr/>
            <p:nvPr/>
          </p:nvSpPr>
          <p:spPr>
            <a:xfrm>
              <a:off x="122400" y="5439960"/>
              <a:ext cx="20872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20"/>
          <p:cNvGrpSpPr/>
          <p:nvPr/>
        </p:nvGrpSpPr>
        <p:grpSpPr>
          <a:xfrm>
            <a:off x="2346480" y="5135400"/>
            <a:ext cx="2089080" cy="1447920"/>
            <a:chOff x="2346480" y="5135400"/>
            <a:chExt cx="2089080" cy="1447920"/>
          </a:xfrm>
        </p:grpSpPr>
        <p:sp>
          <p:nvSpPr>
            <p:cNvPr id="117" name="Rectangle 13"/>
            <p:cNvSpPr/>
            <p:nvPr/>
          </p:nvSpPr>
          <p:spPr>
            <a:xfrm>
              <a:off x="2346480" y="5135400"/>
              <a:ext cx="20890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eltoor (100/1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4"/>
            <p:cNvSpPr/>
            <p:nvPr/>
          </p:nvSpPr>
          <p:spPr>
            <a:xfrm>
              <a:off x="2346480" y="5439960"/>
              <a:ext cx="20890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Group 21"/>
          <p:cNvGrpSpPr/>
          <p:nvPr/>
        </p:nvGrpSpPr>
        <p:grpSpPr>
          <a:xfrm>
            <a:off x="4572000" y="5135400"/>
            <a:ext cx="2087640" cy="1447920"/>
            <a:chOff x="4572000" y="5135400"/>
            <a:chExt cx="2087640" cy="1447920"/>
          </a:xfrm>
        </p:grpSpPr>
        <p:sp>
          <p:nvSpPr>
            <p:cNvPr id="120" name="Rectangle 15"/>
            <p:cNvSpPr/>
            <p:nvPr/>
          </p:nvSpPr>
          <p:spPr>
            <a:xfrm>
              <a:off x="457200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KM Pally (60/6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6"/>
            <p:cNvSpPr/>
            <p:nvPr/>
          </p:nvSpPr>
          <p:spPr>
            <a:xfrm>
              <a:off x="457200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22"/>
          <p:cNvGrpSpPr/>
          <p:nvPr/>
        </p:nvGrpSpPr>
        <p:grpSpPr>
          <a:xfrm>
            <a:off x="6797520" y="5135400"/>
            <a:ext cx="2087640" cy="1447920"/>
            <a:chOff x="6797520" y="5135400"/>
            <a:chExt cx="2087640" cy="1447920"/>
          </a:xfrm>
        </p:grpSpPr>
        <p:sp>
          <p:nvSpPr>
            <p:cNvPr id="123" name="Rectangle 17"/>
            <p:cNvSpPr/>
            <p:nvPr/>
          </p:nvSpPr>
          <p:spPr>
            <a:xfrm>
              <a:off x="679752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Durshed (50/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8"/>
            <p:cNvSpPr/>
            <p:nvPr/>
          </p:nvSpPr>
          <p:spPr>
            <a:xfrm>
              <a:off x="679752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Rectangle 23"/>
          <p:cNvSpPr/>
          <p:nvPr/>
        </p:nvSpPr>
        <p:spPr>
          <a:xfrm>
            <a:off x="122400" y="304920"/>
            <a:ext cx="8762760" cy="380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idders (Capacity) and their preferred s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5"/>
          <p:cNvSpPr/>
          <p:nvPr/>
        </p:nvSpPr>
        <p:spPr>
          <a:xfrm>
            <a:off x="198360" y="838080"/>
            <a:ext cx="208764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6"/>
          <p:cNvSpPr/>
          <p:nvPr/>
        </p:nvSpPr>
        <p:spPr>
          <a:xfrm>
            <a:off x="198360" y="1143000"/>
            <a:ext cx="208764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8"/>
          <p:cNvSpPr/>
          <p:nvPr/>
        </p:nvSpPr>
        <p:spPr>
          <a:xfrm>
            <a:off x="24084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9"/>
          <p:cNvSpPr/>
          <p:nvPr/>
        </p:nvSpPr>
        <p:spPr>
          <a:xfrm>
            <a:off x="24084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M P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1"/>
          <p:cNvSpPr/>
          <p:nvPr/>
        </p:nvSpPr>
        <p:spPr>
          <a:xfrm>
            <a:off x="4632480" y="835200"/>
            <a:ext cx="20890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2"/>
          <p:cNvSpPr/>
          <p:nvPr/>
        </p:nvSpPr>
        <p:spPr>
          <a:xfrm>
            <a:off x="4632480" y="1139760"/>
            <a:ext cx="20890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9"/>
          <p:cNvSpPr/>
          <p:nvPr/>
        </p:nvSpPr>
        <p:spPr>
          <a:xfrm>
            <a:off x="122400" y="547848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0"/>
          <p:cNvSpPr/>
          <p:nvPr/>
        </p:nvSpPr>
        <p:spPr>
          <a:xfrm>
            <a:off x="2408400" y="83808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1"/>
          <p:cNvSpPr/>
          <p:nvPr/>
        </p:nvSpPr>
        <p:spPr>
          <a:xfrm>
            <a:off x="4618080" y="838080"/>
            <a:ext cx="208764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"/>
          <p:cNvSpPr/>
          <p:nvPr/>
        </p:nvSpPr>
        <p:spPr>
          <a:xfrm>
            <a:off x="2570400" y="3220920"/>
            <a:ext cx="383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Veltoor can accommodate B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ounded Rectangle 30"/>
          <p:cNvSpPr/>
          <p:nvPr/>
        </p:nvSpPr>
        <p:spPr>
          <a:xfrm>
            <a:off x="2286000" y="739800"/>
            <a:ext cx="2286000" cy="1679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6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7"/>
          <p:cNvSpPr/>
          <p:nvPr/>
        </p:nvSpPr>
        <p:spPr>
          <a:xfrm>
            <a:off x="67518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8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952B6-95EB-4137-9754-FB0090E3F2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5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76 -4.44444E-006 L -0.04288 0.18125 C -0.05 0.21945 -0.05399 0.27662 -0.05399 0.33635 C -0.05399 0.40394 -0.05 0.45811 -0.04288 0.4963 L -0.01076 0.67778 E">
                                      <p:cBhvr>
                                        <p:cTn id="24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3"/>
          <p:cNvSpPr/>
          <p:nvPr/>
        </p:nvSpPr>
        <p:spPr>
          <a:xfrm>
            <a:off x="122400" y="4716360"/>
            <a:ext cx="8762760" cy="3812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ubstations: (Available capacity/ max capac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19"/>
          <p:cNvGrpSpPr/>
          <p:nvPr/>
        </p:nvGrpSpPr>
        <p:grpSpPr>
          <a:xfrm>
            <a:off x="122400" y="5135400"/>
            <a:ext cx="2087280" cy="1447920"/>
            <a:chOff x="122400" y="5135400"/>
            <a:chExt cx="2087280" cy="1447920"/>
          </a:xfrm>
        </p:grpSpPr>
        <p:sp>
          <p:nvSpPr>
            <p:cNvPr id="143" name="Rectangle 11"/>
            <p:cNvSpPr/>
            <p:nvPr/>
          </p:nvSpPr>
          <p:spPr>
            <a:xfrm>
              <a:off x="122400" y="5135400"/>
              <a:ext cx="20872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Shadnagar (70/1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2"/>
            <p:cNvSpPr/>
            <p:nvPr/>
          </p:nvSpPr>
          <p:spPr>
            <a:xfrm>
              <a:off x="122400" y="5439960"/>
              <a:ext cx="20872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20"/>
          <p:cNvGrpSpPr/>
          <p:nvPr/>
        </p:nvGrpSpPr>
        <p:grpSpPr>
          <a:xfrm>
            <a:off x="2346480" y="5135400"/>
            <a:ext cx="2089080" cy="1447920"/>
            <a:chOff x="2346480" y="5135400"/>
            <a:chExt cx="2089080" cy="1447920"/>
          </a:xfrm>
        </p:grpSpPr>
        <p:sp>
          <p:nvSpPr>
            <p:cNvPr id="146" name="Rectangle 13"/>
            <p:cNvSpPr/>
            <p:nvPr/>
          </p:nvSpPr>
          <p:spPr>
            <a:xfrm>
              <a:off x="2346480" y="5135400"/>
              <a:ext cx="20890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eltoor (50/1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14"/>
            <p:cNvSpPr/>
            <p:nvPr/>
          </p:nvSpPr>
          <p:spPr>
            <a:xfrm>
              <a:off x="2346480" y="5439960"/>
              <a:ext cx="20890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21"/>
          <p:cNvGrpSpPr/>
          <p:nvPr/>
        </p:nvGrpSpPr>
        <p:grpSpPr>
          <a:xfrm>
            <a:off x="4572000" y="5135400"/>
            <a:ext cx="2087640" cy="1447920"/>
            <a:chOff x="4572000" y="5135400"/>
            <a:chExt cx="2087640" cy="1447920"/>
          </a:xfrm>
        </p:grpSpPr>
        <p:sp>
          <p:nvSpPr>
            <p:cNvPr id="149" name="Rectangle 15"/>
            <p:cNvSpPr/>
            <p:nvPr/>
          </p:nvSpPr>
          <p:spPr>
            <a:xfrm>
              <a:off x="457200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KM Pally (60/6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16"/>
            <p:cNvSpPr/>
            <p:nvPr/>
          </p:nvSpPr>
          <p:spPr>
            <a:xfrm>
              <a:off x="457200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22"/>
          <p:cNvGrpSpPr/>
          <p:nvPr/>
        </p:nvGrpSpPr>
        <p:grpSpPr>
          <a:xfrm>
            <a:off x="6797520" y="5135400"/>
            <a:ext cx="2087640" cy="1447920"/>
            <a:chOff x="6797520" y="5135400"/>
            <a:chExt cx="2087640" cy="1447920"/>
          </a:xfrm>
        </p:grpSpPr>
        <p:sp>
          <p:nvSpPr>
            <p:cNvPr id="152" name="Rectangle 17"/>
            <p:cNvSpPr/>
            <p:nvPr/>
          </p:nvSpPr>
          <p:spPr>
            <a:xfrm>
              <a:off x="679752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Durshed (50/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18"/>
            <p:cNvSpPr/>
            <p:nvPr/>
          </p:nvSpPr>
          <p:spPr>
            <a:xfrm>
              <a:off x="679752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Rectangle 23"/>
          <p:cNvSpPr/>
          <p:nvPr/>
        </p:nvSpPr>
        <p:spPr>
          <a:xfrm>
            <a:off x="122400" y="304920"/>
            <a:ext cx="8762760" cy="380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idders (Capacity) and their preferred s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98360" y="835200"/>
            <a:ext cx="208764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98360" y="1143000"/>
            <a:ext cx="208764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2408400" y="83520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9"/>
          <p:cNvSpPr/>
          <p:nvPr/>
        </p:nvSpPr>
        <p:spPr>
          <a:xfrm>
            <a:off x="24084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M P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1"/>
          <p:cNvSpPr/>
          <p:nvPr/>
        </p:nvSpPr>
        <p:spPr>
          <a:xfrm>
            <a:off x="4632480" y="835200"/>
            <a:ext cx="20890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2"/>
          <p:cNvSpPr/>
          <p:nvPr/>
        </p:nvSpPr>
        <p:spPr>
          <a:xfrm>
            <a:off x="4632480" y="1139760"/>
            <a:ext cx="20890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9"/>
          <p:cNvSpPr/>
          <p:nvPr/>
        </p:nvSpPr>
        <p:spPr>
          <a:xfrm>
            <a:off x="122400" y="548172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0"/>
          <p:cNvSpPr/>
          <p:nvPr/>
        </p:nvSpPr>
        <p:spPr>
          <a:xfrm>
            <a:off x="2362320" y="547992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1"/>
          <p:cNvSpPr/>
          <p:nvPr/>
        </p:nvSpPr>
        <p:spPr>
          <a:xfrm>
            <a:off x="4618080" y="835200"/>
            <a:ext cx="208764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2"/>
          <p:cNvSpPr/>
          <p:nvPr/>
        </p:nvSpPr>
        <p:spPr>
          <a:xfrm>
            <a:off x="209520" y="2981160"/>
            <a:ext cx="367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Shadnagar can NOT accommodate B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Veltoor can NOT accommodate B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Isosceles Triangle 1"/>
          <p:cNvSpPr/>
          <p:nvPr/>
        </p:nvSpPr>
        <p:spPr>
          <a:xfrm rot="5400000">
            <a:off x="3124080" y="3217680"/>
            <a:ext cx="1904760" cy="21600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4435560" y="2473200"/>
            <a:ext cx="44035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3 has five optio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velop Projects at a reduced capac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plit Offered Capacity into fract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velop partial capacity at one or more Interconnection S/s from the list and move to second round for balance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ove to second round for entire offered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ithdraw from the bid process altogether and EMD will be retur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3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6"/>
          <p:cNvSpPr/>
          <p:nvPr/>
        </p:nvSpPr>
        <p:spPr>
          <a:xfrm>
            <a:off x="67518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7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ounded Rectangle 30"/>
          <p:cNvSpPr/>
          <p:nvPr/>
        </p:nvSpPr>
        <p:spPr>
          <a:xfrm>
            <a:off x="4495680" y="739800"/>
            <a:ext cx="2286000" cy="1679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1E82A-5E7F-46E4-9228-C13BD0BF3C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3"/>
          <p:cNvSpPr/>
          <p:nvPr/>
        </p:nvSpPr>
        <p:spPr>
          <a:xfrm>
            <a:off x="122400" y="4716360"/>
            <a:ext cx="8762760" cy="3812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ubstations: (Available capacity/ max capac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19"/>
          <p:cNvGrpSpPr/>
          <p:nvPr/>
        </p:nvGrpSpPr>
        <p:grpSpPr>
          <a:xfrm>
            <a:off x="122400" y="5135400"/>
            <a:ext cx="2087280" cy="1447920"/>
            <a:chOff x="122400" y="5135400"/>
            <a:chExt cx="2087280" cy="1447920"/>
          </a:xfrm>
        </p:grpSpPr>
        <p:sp>
          <p:nvSpPr>
            <p:cNvPr id="174" name="Rectangle 11"/>
            <p:cNvSpPr/>
            <p:nvPr/>
          </p:nvSpPr>
          <p:spPr>
            <a:xfrm>
              <a:off x="122400" y="5135400"/>
              <a:ext cx="20872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Shadnagar (70/1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12"/>
            <p:cNvSpPr/>
            <p:nvPr/>
          </p:nvSpPr>
          <p:spPr>
            <a:xfrm>
              <a:off x="122400" y="5439960"/>
              <a:ext cx="20872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20"/>
          <p:cNvGrpSpPr/>
          <p:nvPr/>
        </p:nvGrpSpPr>
        <p:grpSpPr>
          <a:xfrm>
            <a:off x="2346480" y="5135400"/>
            <a:ext cx="2089080" cy="1447920"/>
            <a:chOff x="2346480" y="5135400"/>
            <a:chExt cx="2089080" cy="1447920"/>
          </a:xfrm>
        </p:grpSpPr>
        <p:sp>
          <p:nvSpPr>
            <p:cNvPr id="177" name="Rectangle 13"/>
            <p:cNvSpPr/>
            <p:nvPr/>
          </p:nvSpPr>
          <p:spPr>
            <a:xfrm>
              <a:off x="2346480" y="5135400"/>
              <a:ext cx="20890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eltoor (50/1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14"/>
            <p:cNvSpPr/>
            <p:nvPr/>
          </p:nvSpPr>
          <p:spPr>
            <a:xfrm>
              <a:off x="2346480" y="5439960"/>
              <a:ext cx="20890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21"/>
          <p:cNvGrpSpPr/>
          <p:nvPr/>
        </p:nvGrpSpPr>
        <p:grpSpPr>
          <a:xfrm>
            <a:off x="4572000" y="5135400"/>
            <a:ext cx="2087640" cy="1447920"/>
            <a:chOff x="4572000" y="5135400"/>
            <a:chExt cx="2087640" cy="1447920"/>
          </a:xfrm>
        </p:grpSpPr>
        <p:sp>
          <p:nvSpPr>
            <p:cNvPr id="180" name="Rectangle 15"/>
            <p:cNvSpPr/>
            <p:nvPr/>
          </p:nvSpPr>
          <p:spPr>
            <a:xfrm>
              <a:off x="457200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KM Pally (60/6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6"/>
            <p:cNvSpPr/>
            <p:nvPr/>
          </p:nvSpPr>
          <p:spPr>
            <a:xfrm>
              <a:off x="457200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22"/>
          <p:cNvGrpSpPr/>
          <p:nvPr/>
        </p:nvGrpSpPr>
        <p:grpSpPr>
          <a:xfrm>
            <a:off x="6797520" y="5135400"/>
            <a:ext cx="2087640" cy="1447920"/>
            <a:chOff x="6797520" y="5135400"/>
            <a:chExt cx="2087640" cy="1447920"/>
          </a:xfrm>
        </p:grpSpPr>
        <p:sp>
          <p:nvSpPr>
            <p:cNvPr id="183" name="Rectangle 17"/>
            <p:cNvSpPr/>
            <p:nvPr/>
          </p:nvSpPr>
          <p:spPr>
            <a:xfrm>
              <a:off x="679752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Durshed (50/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18"/>
            <p:cNvSpPr/>
            <p:nvPr/>
          </p:nvSpPr>
          <p:spPr>
            <a:xfrm>
              <a:off x="679752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Rectangle 23"/>
          <p:cNvSpPr/>
          <p:nvPr/>
        </p:nvSpPr>
        <p:spPr>
          <a:xfrm>
            <a:off x="122400" y="304920"/>
            <a:ext cx="8762760" cy="380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idders (Capacity) and their preferred s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5"/>
          <p:cNvSpPr/>
          <p:nvPr/>
        </p:nvSpPr>
        <p:spPr>
          <a:xfrm>
            <a:off x="198360" y="838080"/>
            <a:ext cx="2087640" cy="30492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6"/>
          <p:cNvSpPr/>
          <p:nvPr/>
        </p:nvSpPr>
        <p:spPr>
          <a:xfrm>
            <a:off x="198360" y="1143000"/>
            <a:ext cx="208764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8"/>
          <p:cNvSpPr/>
          <p:nvPr/>
        </p:nvSpPr>
        <p:spPr>
          <a:xfrm>
            <a:off x="24084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9"/>
          <p:cNvSpPr/>
          <p:nvPr/>
        </p:nvSpPr>
        <p:spPr>
          <a:xfrm>
            <a:off x="24084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M P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1"/>
          <p:cNvSpPr/>
          <p:nvPr/>
        </p:nvSpPr>
        <p:spPr>
          <a:xfrm>
            <a:off x="4632480" y="835200"/>
            <a:ext cx="20890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2"/>
          <p:cNvSpPr/>
          <p:nvPr/>
        </p:nvSpPr>
        <p:spPr>
          <a:xfrm>
            <a:off x="4632480" y="1139760"/>
            <a:ext cx="20890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39"/>
          <p:cNvSpPr/>
          <p:nvPr/>
        </p:nvSpPr>
        <p:spPr>
          <a:xfrm>
            <a:off x="198360" y="835200"/>
            <a:ext cx="208764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0"/>
          <p:cNvSpPr/>
          <p:nvPr/>
        </p:nvSpPr>
        <p:spPr>
          <a:xfrm>
            <a:off x="2408400" y="83520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1"/>
          <p:cNvSpPr/>
          <p:nvPr/>
        </p:nvSpPr>
        <p:spPr>
          <a:xfrm>
            <a:off x="4618080" y="835200"/>
            <a:ext cx="208764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70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2"/>
          <p:cNvSpPr/>
          <p:nvPr/>
        </p:nvSpPr>
        <p:spPr>
          <a:xfrm>
            <a:off x="209520" y="2981160"/>
            <a:ext cx="367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Shadnagar can NOT accommodate B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Veltoor can NOT accommodate B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Isosceles Triangle 1"/>
          <p:cNvSpPr/>
          <p:nvPr/>
        </p:nvSpPr>
        <p:spPr>
          <a:xfrm rot="5400000">
            <a:off x="3124080" y="3217680"/>
            <a:ext cx="1904760" cy="21600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4435560" y="2473200"/>
            <a:ext cx="44035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3 has five optio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Develop Projects at a reduced capac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plit Offered Capacity into fract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velop partial capacity at one or more Interconnection S/s from the list and move to second round for balance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ove to second round for entire offered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ithdraw from the bid process altogether and EMD will be retur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3"/>
          <p:cNvSpPr/>
          <p:nvPr/>
        </p:nvSpPr>
        <p:spPr>
          <a:xfrm>
            <a:off x="122400" y="548172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6"/>
          <p:cNvSpPr/>
          <p:nvPr/>
        </p:nvSpPr>
        <p:spPr>
          <a:xfrm>
            <a:off x="2362320" y="547992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7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8"/>
          <p:cNvSpPr/>
          <p:nvPr/>
        </p:nvSpPr>
        <p:spPr>
          <a:xfrm>
            <a:off x="67518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3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ounded Rectangle 30"/>
          <p:cNvSpPr/>
          <p:nvPr/>
        </p:nvSpPr>
        <p:spPr>
          <a:xfrm>
            <a:off x="4495680" y="739800"/>
            <a:ext cx="2286000" cy="1679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DBE4F-30C6-4D9E-9969-5BFCAE638A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48148E-006 L -0.4941 0.73333 E">
                                      <p:cBhvr>
                                        <p:cTn id="46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3"/>
          <p:cNvSpPr/>
          <p:nvPr/>
        </p:nvSpPr>
        <p:spPr>
          <a:xfrm>
            <a:off x="122400" y="4716360"/>
            <a:ext cx="8762760" cy="3812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ubstations: (Available capacity/ max capac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19"/>
          <p:cNvGrpSpPr/>
          <p:nvPr/>
        </p:nvGrpSpPr>
        <p:grpSpPr>
          <a:xfrm>
            <a:off x="122400" y="5135400"/>
            <a:ext cx="2087280" cy="1447920"/>
            <a:chOff x="122400" y="5135400"/>
            <a:chExt cx="2087280" cy="1447920"/>
          </a:xfrm>
        </p:grpSpPr>
        <p:sp>
          <p:nvSpPr>
            <p:cNvPr id="207" name="Rectangle 11"/>
            <p:cNvSpPr/>
            <p:nvPr/>
          </p:nvSpPr>
          <p:spPr>
            <a:xfrm>
              <a:off x="122400" y="5135400"/>
              <a:ext cx="20872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Shadnagar (</a:t>
              </a:r>
              <a:r>
                <a:rPr b="0" lang="en-US" sz="1800" spc="-1" strike="noStrike">
                  <a:solidFill>
                    <a:srgbClr val="ff0000"/>
                  </a:solidFill>
                  <a:latin typeface="Calibri"/>
                </a:rPr>
                <a:t>0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/1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12"/>
            <p:cNvSpPr/>
            <p:nvPr/>
          </p:nvSpPr>
          <p:spPr>
            <a:xfrm>
              <a:off x="122400" y="5439960"/>
              <a:ext cx="20872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20"/>
          <p:cNvGrpSpPr/>
          <p:nvPr/>
        </p:nvGrpSpPr>
        <p:grpSpPr>
          <a:xfrm>
            <a:off x="2346480" y="5135400"/>
            <a:ext cx="2089080" cy="1447920"/>
            <a:chOff x="2346480" y="5135400"/>
            <a:chExt cx="2089080" cy="1447920"/>
          </a:xfrm>
        </p:grpSpPr>
        <p:sp>
          <p:nvSpPr>
            <p:cNvPr id="210" name="Rectangle 13"/>
            <p:cNvSpPr/>
            <p:nvPr/>
          </p:nvSpPr>
          <p:spPr>
            <a:xfrm>
              <a:off x="2346480" y="5135400"/>
              <a:ext cx="20890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eltoor (50/1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4"/>
            <p:cNvSpPr/>
            <p:nvPr/>
          </p:nvSpPr>
          <p:spPr>
            <a:xfrm>
              <a:off x="2346480" y="5439960"/>
              <a:ext cx="20890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Group 21"/>
          <p:cNvGrpSpPr/>
          <p:nvPr/>
        </p:nvGrpSpPr>
        <p:grpSpPr>
          <a:xfrm>
            <a:off x="4572000" y="5135400"/>
            <a:ext cx="2087640" cy="1447920"/>
            <a:chOff x="4572000" y="5135400"/>
            <a:chExt cx="2087640" cy="1447920"/>
          </a:xfrm>
        </p:grpSpPr>
        <p:sp>
          <p:nvSpPr>
            <p:cNvPr id="213" name="Rectangle 15"/>
            <p:cNvSpPr/>
            <p:nvPr/>
          </p:nvSpPr>
          <p:spPr>
            <a:xfrm>
              <a:off x="457200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KM Pally (60/6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16"/>
            <p:cNvSpPr/>
            <p:nvPr/>
          </p:nvSpPr>
          <p:spPr>
            <a:xfrm>
              <a:off x="457200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22"/>
          <p:cNvGrpSpPr/>
          <p:nvPr/>
        </p:nvGrpSpPr>
        <p:grpSpPr>
          <a:xfrm>
            <a:off x="6797520" y="5135400"/>
            <a:ext cx="2087640" cy="1447920"/>
            <a:chOff x="6797520" y="5135400"/>
            <a:chExt cx="2087640" cy="1447920"/>
          </a:xfrm>
        </p:grpSpPr>
        <p:sp>
          <p:nvSpPr>
            <p:cNvPr id="216" name="Rectangle 17"/>
            <p:cNvSpPr/>
            <p:nvPr/>
          </p:nvSpPr>
          <p:spPr>
            <a:xfrm>
              <a:off x="679752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Durshed (50/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8"/>
            <p:cNvSpPr/>
            <p:nvPr/>
          </p:nvSpPr>
          <p:spPr>
            <a:xfrm>
              <a:off x="679752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Rectangle 23"/>
          <p:cNvSpPr/>
          <p:nvPr/>
        </p:nvSpPr>
        <p:spPr>
          <a:xfrm>
            <a:off x="122400" y="304920"/>
            <a:ext cx="8762760" cy="380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idders (Capacity) and their preferred s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5"/>
          <p:cNvSpPr/>
          <p:nvPr/>
        </p:nvSpPr>
        <p:spPr>
          <a:xfrm>
            <a:off x="198360" y="838080"/>
            <a:ext cx="2087640" cy="30492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6"/>
          <p:cNvSpPr/>
          <p:nvPr/>
        </p:nvSpPr>
        <p:spPr>
          <a:xfrm>
            <a:off x="198360" y="1143000"/>
            <a:ext cx="208764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4084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29"/>
          <p:cNvSpPr/>
          <p:nvPr/>
        </p:nvSpPr>
        <p:spPr>
          <a:xfrm>
            <a:off x="24084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M P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1"/>
          <p:cNvSpPr/>
          <p:nvPr/>
        </p:nvSpPr>
        <p:spPr>
          <a:xfrm>
            <a:off x="4632480" y="835200"/>
            <a:ext cx="20890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2"/>
          <p:cNvSpPr/>
          <p:nvPr/>
        </p:nvSpPr>
        <p:spPr>
          <a:xfrm>
            <a:off x="4632480" y="1139760"/>
            <a:ext cx="20890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9"/>
          <p:cNvSpPr/>
          <p:nvPr/>
        </p:nvSpPr>
        <p:spPr>
          <a:xfrm>
            <a:off x="198360" y="835200"/>
            <a:ext cx="208764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0"/>
          <p:cNvSpPr/>
          <p:nvPr/>
        </p:nvSpPr>
        <p:spPr>
          <a:xfrm>
            <a:off x="2408400" y="83808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1"/>
          <p:cNvSpPr/>
          <p:nvPr/>
        </p:nvSpPr>
        <p:spPr>
          <a:xfrm>
            <a:off x="122400" y="585792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7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3"/>
          <p:cNvSpPr/>
          <p:nvPr/>
        </p:nvSpPr>
        <p:spPr>
          <a:xfrm>
            <a:off x="122400" y="548172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36"/>
          <p:cNvSpPr/>
          <p:nvPr/>
        </p:nvSpPr>
        <p:spPr>
          <a:xfrm>
            <a:off x="2362320" y="547992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7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38"/>
          <p:cNvSpPr/>
          <p:nvPr/>
        </p:nvSpPr>
        <p:spPr>
          <a:xfrm>
            <a:off x="67518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3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ounded Rectangle 30"/>
          <p:cNvSpPr/>
          <p:nvPr/>
        </p:nvSpPr>
        <p:spPr>
          <a:xfrm>
            <a:off x="4495680" y="739800"/>
            <a:ext cx="2286000" cy="1679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34"/>
          <p:cNvSpPr/>
          <p:nvPr/>
        </p:nvSpPr>
        <p:spPr>
          <a:xfrm>
            <a:off x="235800" y="2981160"/>
            <a:ext cx="87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B3 selected 70 MW at Shadnagar in First Round and did not participate in the Second Rou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C0421-5480-4E88-8758-2948162A08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3"/>
          <p:cNvSpPr/>
          <p:nvPr/>
        </p:nvSpPr>
        <p:spPr>
          <a:xfrm>
            <a:off x="122400" y="4716360"/>
            <a:ext cx="8762760" cy="3812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ubstations: (Available capacity/ max capac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19"/>
          <p:cNvGrpSpPr/>
          <p:nvPr/>
        </p:nvGrpSpPr>
        <p:grpSpPr>
          <a:xfrm>
            <a:off x="122400" y="5135400"/>
            <a:ext cx="2087280" cy="1447920"/>
            <a:chOff x="122400" y="5135400"/>
            <a:chExt cx="2087280" cy="1447920"/>
          </a:xfrm>
        </p:grpSpPr>
        <p:sp>
          <p:nvSpPr>
            <p:cNvPr id="238" name="Rectangle 11"/>
            <p:cNvSpPr/>
            <p:nvPr/>
          </p:nvSpPr>
          <p:spPr>
            <a:xfrm>
              <a:off x="122400" y="5135400"/>
              <a:ext cx="20872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Shadnagar </a:t>
              </a: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(0/150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12"/>
            <p:cNvSpPr/>
            <p:nvPr/>
          </p:nvSpPr>
          <p:spPr>
            <a:xfrm>
              <a:off x="122400" y="5439960"/>
              <a:ext cx="20872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20"/>
          <p:cNvGrpSpPr/>
          <p:nvPr/>
        </p:nvGrpSpPr>
        <p:grpSpPr>
          <a:xfrm>
            <a:off x="2346480" y="5135400"/>
            <a:ext cx="2089080" cy="1447920"/>
            <a:chOff x="2346480" y="5135400"/>
            <a:chExt cx="2089080" cy="1447920"/>
          </a:xfrm>
        </p:grpSpPr>
        <p:sp>
          <p:nvSpPr>
            <p:cNvPr id="241" name="Rectangle 13"/>
            <p:cNvSpPr/>
            <p:nvPr/>
          </p:nvSpPr>
          <p:spPr>
            <a:xfrm>
              <a:off x="2346480" y="5135400"/>
              <a:ext cx="20890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eltoor (50/1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14"/>
            <p:cNvSpPr/>
            <p:nvPr/>
          </p:nvSpPr>
          <p:spPr>
            <a:xfrm>
              <a:off x="2346480" y="5439960"/>
              <a:ext cx="20890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21"/>
          <p:cNvGrpSpPr/>
          <p:nvPr/>
        </p:nvGrpSpPr>
        <p:grpSpPr>
          <a:xfrm>
            <a:off x="4572000" y="5135400"/>
            <a:ext cx="2087640" cy="1447920"/>
            <a:chOff x="4572000" y="5135400"/>
            <a:chExt cx="2087640" cy="1447920"/>
          </a:xfrm>
        </p:grpSpPr>
        <p:sp>
          <p:nvSpPr>
            <p:cNvPr id="244" name="Rectangle 15"/>
            <p:cNvSpPr/>
            <p:nvPr/>
          </p:nvSpPr>
          <p:spPr>
            <a:xfrm>
              <a:off x="457200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KM Pally (60/6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16"/>
            <p:cNvSpPr/>
            <p:nvPr/>
          </p:nvSpPr>
          <p:spPr>
            <a:xfrm>
              <a:off x="457200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22"/>
          <p:cNvGrpSpPr/>
          <p:nvPr/>
        </p:nvGrpSpPr>
        <p:grpSpPr>
          <a:xfrm>
            <a:off x="6797520" y="5135400"/>
            <a:ext cx="2087640" cy="1447920"/>
            <a:chOff x="6797520" y="5135400"/>
            <a:chExt cx="2087640" cy="1447920"/>
          </a:xfrm>
        </p:grpSpPr>
        <p:sp>
          <p:nvSpPr>
            <p:cNvPr id="247" name="Rectangle 17"/>
            <p:cNvSpPr/>
            <p:nvPr/>
          </p:nvSpPr>
          <p:spPr>
            <a:xfrm>
              <a:off x="679752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Durshed (50/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18"/>
            <p:cNvSpPr/>
            <p:nvPr/>
          </p:nvSpPr>
          <p:spPr>
            <a:xfrm>
              <a:off x="679752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Rectangle 23"/>
          <p:cNvSpPr/>
          <p:nvPr/>
        </p:nvSpPr>
        <p:spPr>
          <a:xfrm>
            <a:off x="122400" y="304920"/>
            <a:ext cx="8762760" cy="380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idders (Capacity) and their preferred s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25"/>
          <p:cNvSpPr/>
          <p:nvPr/>
        </p:nvSpPr>
        <p:spPr>
          <a:xfrm>
            <a:off x="198360" y="838080"/>
            <a:ext cx="2087640" cy="30492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26"/>
          <p:cNvSpPr/>
          <p:nvPr/>
        </p:nvSpPr>
        <p:spPr>
          <a:xfrm>
            <a:off x="198360" y="1143000"/>
            <a:ext cx="208764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28"/>
          <p:cNvSpPr/>
          <p:nvPr/>
        </p:nvSpPr>
        <p:spPr>
          <a:xfrm>
            <a:off x="24084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29"/>
          <p:cNvSpPr/>
          <p:nvPr/>
        </p:nvSpPr>
        <p:spPr>
          <a:xfrm>
            <a:off x="24084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M P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1"/>
          <p:cNvSpPr/>
          <p:nvPr/>
        </p:nvSpPr>
        <p:spPr>
          <a:xfrm>
            <a:off x="4632480" y="835200"/>
            <a:ext cx="20890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2"/>
          <p:cNvSpPr/>
          <p:nvPr/>
        </p:nvSpPr>
        <p:spPr>
          <a:xfrm>
            <a:off x="4632480" y="1139760"/>
            <a:ext cx="20890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34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5"/>
          <p:cNvSpPr/>
          <p:nvPr/>
        </p:nvSpPr>
        <p:spPr>
          <a:xfrm>
            <a:off x="67518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39"/>
          <p:cNvSpPr/>
          <p:nvPr/>
        </p:nvSpPr>
        <p:spPr>
          <a:xfrm>
            <a:off x="198360" y="835200"/>
            <a:ext cx="208764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40"/>
          <p:cNvSpPr/>
          <p:nvPr/>
        </p:nvSpPr>
        <p:spPr>
          <a:xfrm>
            <a:off x="2408400" y="83808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1"/>
          <p:cNvSpPr/>
          <p:nvPr/>
        </p:nvSpPr>
        <p:spPr>
          <a:xfrm>
            <a:off x="122400" y="585792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7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42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ounded Rectangle 30"/>
          <p:cNvSpPr/>
          <p:nvPr/>
        </p:nvSpPr>
        <p:spPr>
          <a:xfrm>
            <a:off x="6651720" y="723960"/>
            <a:ext cx="2286000" cy="1679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3"/>
          <p:cNvSpPr/>
          <p:nvPr/>
        </p:nvSpPr>
        <p:spPr>
          <a:xfrm>
            <a:off x="122400" y="548172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2362320" y="547992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37"/>
          <p:cNvSpPr/>
          <p:nvPr/>
        </p:nvSpPr>
        <p:spPr>
          <a:xfrm>
            <a:off x="204120" y="2981160"/>
            <a:ext cx="33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Veltoor can NOT accommodate B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Isosceles Triangle 38"/>
          <p:cNvSpPr/>
          <p:nvPr/>
        </p:nvSpPr>
        <p:spPr>
          <a:xfrm rot="5400000">
            <a:off x="3124080" y="3217680"/>
            <a:ext cx="1904760" cy="21600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43"/>
          <p:cNvSpPr/>
          <p:nvPr/>
        </p:nvSpPr>
        <p:spPr>
          <a:xfrm>
            <a:off x="4435560" y="2473200"/>
            <a:ext cx="44035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4 has five optio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velop Projects at a reduced capac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plit Offered Capacity into fract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velop partial capacity at one or more Interconnection S/s from the list and move to second round for balance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ove to second round for entire offered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ithdraw from the bid process altogether and EMD will be retur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DCD88-C442-4DF3-A389-7E89953647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3"/>
          <p:cNvSpPr/>
          <p:nvPr/>
        </p:nvSpPr>
        <p:spPr>
          <a:xfrm>
            <a:off x="122400" y="4716360"/>
            <a:ext cx="8762760" cy="3812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ubstations: (Available capacity/ max capac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19"/>
          <p:cNvGrpSpPr/>
          <p:nvPr/>
        </p:nvGrpSpPr>
        <p:grpSpPr>
          <a:xfrm>
            <a:off x="122400" y="5135400"/>
            <a:ext cx="2087280" cy="1447920"/>
            <a:chOff x="122400" y="5135400"/>
            <a:chExt cx="2087280" cy="1447920"/>
          </a:xfrm>
        </p:grpSpPr>
        <p:sp>
          <p:nvSpPr>
            <p:cNvPr id="271" name="Rectangle 11"/>
            <p:cNvSpPr/>
            <p:nvPr/>
          </p:nvSpPr>
          <p:spPr>
            <a:xfrm>
              <a:off x="122400" y="5135400"/>
              <a:ext cx="20872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Shadnagar </a:t>
              </a: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(0/150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2"/>
            <p:cNvSpPr/>
            <p:nvPr/>
          </p:nvSpPr>
          <p:spPr>
            <a:xfrm>
              <a:off x="122400" y="5439960"/>
              <a:ext cx="20872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Group 20"/>
          <p:cNvGrpSpPr/>
          <p:nvPr/>
        </p:nvGrpSpPr>
        <p:grpSpPr>
          <a:xfrm>
            <a:off x="2346480" y="5135400"/>
            <a:ext cx="2089080" cy="1447920"/>
            <a:chOff x="2346480" y="5135400"/>
            <a:chExt cx="2089080" cy="1447920"/>
          </a:xfrm>
        </p:grpSpPr>
        <p:sp>
          <p:nvSpPr>
            <p:cNvPr id="274" name="Rectangle 13"/>
            <p:cNvSpPr/>
            <p:nvPr/>
          </p:nvSpPr>
          <p:spPr>
            <a:xfrm>
              <a:off x="2346480" y="5135400"/>
              <a:ext cx="20890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eltoor (50/1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14"/>
            <p:cNvSpPr/>
            <p:nvPr/>
          </p:nvSpPr>
          <p:spPr>
            <a:xfrm>
              <a:off x="2346480" y="5439960"/>
              <a:ext cx="20890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21"/>
          <p:cNvGrpSpPr/>
          <p:nvPr/>
        </p:nvGrpSpPr>
        <p:grpSpPr>
          <a:xfrm>
            <a:off x="4572000" y="5135400"/>
            <a:ext cx="2087640" cy="1447920"/>
            <a:chOff x="4572000" y="5135400"/>
            <a:chExt cx="2087640" cy="1447920"/>
          </a:xfrm>
        </p:grpSpPr>
        <p:sp>
          <p:nvSpPr>
            <p:cNvPr id="277" name="Rectangle 15"/>
            <p:cNvSpPr/>
            <p:nvPr/>
          </p:nvSpPr>
          <p:spPr>
            <a:xfrm>
              <a:off x="457200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KM Pally (60/6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457200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oup 22"/>
          <p:cNvGrpSpPr/>
          <p:nvPr/>
        </p:nvGrpSpPr>
        <p:grpSpPr>
          <a:xfrm>
            <a:off x="6797520" y="5135400"/>
            <a:ext cx="2087640" cy="1447920"/>
            <a:chOff x="6797520" y="5135400"/>
            <a:chExt cx="2087640" cy="1447920"/>
          </a:xfrm>
        </p:grpSpPr>
        <p:sp>
          <p:nvSpPr>
            <p:cNvPr id="280" name="Rectangle 17"/>
            <p:cNvSpPr/>
            <p:nvPr/>
          </p:nvSpPr>
          <p:spPr>
            <a:xfrm>
              <a:off x="679752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Durshed (50/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18"/>
            <p:cNvSpPr/>
            <p:nvPr/>
          </p:nvSpPr>
          <p:spPr>
            <a:xfrm>
              <a:off x="679752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Rectangle 23"/>
          <p:cNvSpPr/>
          <p:nvPr/>
        </p:nvSpPr>
        <p:spPr>
          <a:xfrm>
            <a:off x="122400" y="304920"/>
            <a:ext cx="8762760" cy="380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idders (Capacity) and their preferred s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5"/>
          <p:cNvSpPr/>
          <p:nvPr/>
        </p:nvSpPr>
        <p:spPr>
          <a:xfrm>
            <a:off x="198360" y="838080"/>
            <a:ext cx="2087640" cy="30492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6"/>
          <p:cNvSpPr/>
          <p:nvPr/>
        </p:nvSpPr>
        <p:spPr>
          <a:xfrm>
            <a:off x="198360" y="1143000"/>
            <a:ext cx="208764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28"/>
          <p:cNvSpPr/>
          <p:nvPr/>
        </p:nvSpPr>
        <p:spPr>
          <a:xfrm>
            <a:off x="24084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29"/>
          <p:cNvSpPr/>
          <p:nvPr/>
        </p:nvSpPr>
        <p:spPr>
          <a:xfrm>
            <a:off x="24084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M P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31"/>
          <p:cNvSpPr/>
          <p:nvPr/>
        </p:nvSpPr>
        <p:spPr>
          <a:xfrm>
            <a:off x="4632480" y="835200"/>
            <a:ext cx="20890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2"/>
          <p:cNvSpPr/>
          <p:nvPr/>
        </p:nvSpPr>
        <p:spPr>
          <a:xfrm>
            <a:off x="4632480" y="1139760"/>
            <a:ext cx="20890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4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35"/>
          <p:cNvSpPr/>
          <p:nvPr/>
        </p:nvSpPr>
        <p:spPr>
          <a:xfrm>
            <a:off x="67518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39"/>
          <p:cNvSpPr/>
          <p:nvPr/>
        </p:nvSpPr>
        <p:spPr>
          <a:xfrm>
            <a:off x="198360" y="835200"/>
            <a:ext cx="208764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0"/>
          <p:cNvSpPr/>
          <p:nvPr/>
        </p:nvSpPr>
        <p:spPr>
          <a:xfrm>
            <a:off x="2408400" y="83808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41"/>
          <p:cNvSpPr/>
          <p:nvPr/>
        </p:nvSpPr>
        <p:spPr>
          <a:xfrm>
            <a:off x="122400" y="585792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7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42"/>
          <p:cNvSpPr/>
          <p:nvPr/>
        </p:nvSpPr>
        <p:spPr>
          <a:xfrm>
            <a:off x="6751800" y="84924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50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ounded Rectangle 30"/>
          <p:cNvSpPr/>
          <p:nvPr/>
        </p:nvSpPr>
        <p:spPr>
          <a:xfrm>
            <a:off x="6651720" y="723960"/>
            <a:ext cx="2286000" cy="1679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33"/>
          <p:cNvSpPr/>
          <p:nvPr/>
        </p:nvSpPr>
        <p:spPr>
          <a:xfrm>
            <a:off x="122400" y="548172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36"/>
          <p:cNvSpPr/>
          <p:nvPr/>
        </p:nvSpPr>
        <p:spPr>
          <a:xfrm>
            <a:off x="2362320" y="547992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37"/>
          <p:cNvSpPr/>
          <p:nvPr/>
        </p:nvSpPr>
        <p:spPr>
          <a:xfrm>
            <a:off x="204120" y="2981160"/>
            <a:ext cx="33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Veltoor can NOT accommodate B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Isosceles Triangle 38"/>
          <p:cNvSpPr/>
          <p:nvPr/>
        </p:nvSpPr>
        <p:spPr>
          <a:xfrm rot="5400000">
            <a:off x="3124080" y="3217680"/>
            <a:ext cx="1904760" cy="21600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43"/>
          <p:cNvSpPr/>
          <p:nvPr/>
        </p:nvSpPr>
        <p:spPr>
          <a:xfrm>
            <a:off x="4435560" y="2473200"/>
            <a:ext cx="44035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4 has five optio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velop Projects at a reduced capac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plit Offered Capacity into fract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velop partial capacity at one or more Interconnection S/s from the list and move to second round for balance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ove to second round for entire offered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ithdraw from the bid process altogether and EMD will be retur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1"/>
          <p:cNvSpPr/>
          <p:nvPr/>
        </p:nvSpPr>
        <p:spPr>
          <a:xfrm>
            <a:off x="-47520" y="3479760"/>
            <a:ext cx="369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4 opted to participate in 2nd rou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r balance 50 M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51F7E-28F0-44C8-8F6B-41E901BE02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43 -4.81481E-006 L -0.47986 0.7338 E">
                                      <p:cBhvr>
                                        <p:cTn id="52" dur="2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  <a:ea typeface="Arial"/>
              </a:rPr>
              <a:t>Authorized Representative: TSSPDC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purpose of this presentation i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provide a summar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f the Bid Model for the Telangana solar tender. The model essentially revolves around a distributed generation format with projects connected at 33kV, 132 kV and 220 kV voltage level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idders have to rely on the bid documents available on the website for all the terms and conditions applicable for the Bid. This presentation only provides a quick overview an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s not comprehensiv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 nature. In the event of any discrepancy between this presentation and the bid documents, the bid documents will overrule this docum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s presentation attempts to provide clarifications on some of the queries raised by the Bidders but Bidders should solely rely on the clarifications/amendments issued by the Authorized Representative on the eProcurement platform/website as the case may b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033E4-3E6D-4B7E-AE22-B7A00AD166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" y="0"/>
          <a:ext cx="8839080" cy="6616800"/>
        </p:xfrm>
        <a:graphic>
          <a:graphicData uri="http://schemas.openxmlformats.org/drawingml/2006/table">
            <a:tbl>
              <a:tblPr/>
              <a:tblGrid>
                <a:gridCol w="2819520"/>
                <a:gridCol w="6019560"/>
              </a:tblGrid>
              <a:tr h="38736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um Project Capac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MW at 33/11 kv subs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imum Project Capac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 MW on double circuit line at 220/132 kV or 400/220 kV subs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V (technology agnostic within PV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924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R 10 Lakhs/MW through BG (210 days from bid deadline) for each Financial B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case of foreign companies, Indian affiliate can furnish bank guarantee along with additional documents mention in Rf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sing F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n Thousand (Rs 10,000/-) per MW of Offered Capacity subject to a maximum of Rs One Lakh (Rs 1,00,000) for each B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ance Bank Guarant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R 20 Lakhs/MW per Project in three BG (15%, 35% and 50%) valid for 18 months from signing of PPA (PBG to be submitted within 30 days of issue of LOI failing which EMD will be forfeite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300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igibil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ical Eligibility: Commercial and technically proven technologies to be adop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worth: INR 2 crore/MW of Bid Capac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nies, Partnerships, Individuals, foreign companies, LLC are eligi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brid Consortiums are not eligible for participation in this RF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nerships, foreign companies, foreign individuals must create project companies with equity infused to INR 0.6 Cr/MW by PPA signing and INR 1.4 Cr/MW by financial clos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C772F-A751-4616-A31A-C64DE07F1D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52280" y="304920"/>
          <a:ext cx="8839440" cy="5940360"/>
        </p:xfrm>
        <a:graphic>
          <a:graphicData uri="http://schemas.openxmlformats.org/drawingml/2006/table">
            <a:tbl>
              <a:tblPr/>
              <a:tblGrid>
                <a:gridCol w="2819520"/>
                <a:gridCol w="6019920"/>
              </a:tblGrid>
              <a:tr h="111924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vidu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to ID proof and Address Proof for Indian nation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port copy for Foreign nation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returns for past 4 ye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 certificate for demonstrating net wor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888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nership Fir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dited accounts for past 4 ye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 certificate demonstrating net wor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nership de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 of attorney in favour of authorized signat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56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n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dited accounts for past 4 years for financially evaluated ent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 certificate demonstrating net wor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orporation documents (CoI, MoA and Ao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 of attorney/Board Resolution in favour of authorized signat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ard Resolution of affiliate if financials are used for meeting minimum networth require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668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ortiu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ch member of consortium must submit the above documents as applic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 of attorney in favour of lead member (Individuals and Partnership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ard Resolution/Power of Attorney in favour of Lead Member for Compan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A07AB-53CE-4E7A-A866-B32D0672F7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228600" y="158760"/>
          <a:ext cx="8686800" cy="6165720"/>
        </p:xfrm>
        <a:graphic>
          <a:graphicData uri="http://schemas.openxmlformats.org/drawingml/2006/table">
            <a:tbl>
              <a:tblPr/>
              <a:tblGrid>
                <a:gridCol w="3048120"/>
                <a:gridCol w="5638680"/>
              </a:tblGrid>
              <a:tr h="33660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A basi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PPA issued in April 2015 with relevant modification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 of PP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years from CO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period for commission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months from signing of PP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period for financial closure and conditions subseque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 days from signing of PP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worth infus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 of requirement before PPA execution and balance before financial closu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 location/si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 be changed till financial closu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 obligations of develop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taining all consents and clearanc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ing, financing, construction, owning and operating the power stat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ing interconnection facilities till Interconnection poi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ng and maintenance of power plant to conform with RLDC/SLDC/TSTRANSCO/IEGC norm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380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penalties for lower CU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rgy beyond 25% CUF will be billed at 50% of applicable tariff for that yea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344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rgy Dispatc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energy for DISCOMS’ exclusive benefi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ivered Energy prior to COD shall be purchased at Quoted Tarif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yment term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hly bill payment. Rebate and Late payment interest provided</a:t>
                      </a:r>
                      <a:br>
                        <a:rPr sz="1500"/>
                      </a:b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yment security is letter of credi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6C14D-16D7-4FA6-ACC7-9CCE1819D0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33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rief Overview and Project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685800"/>
          <a:ext cx="8229600" cy="5994360"/>
        </p:xfrm>
        <a:graphic>
          <a:graphicData uri="http://schemas.openxmlformats.org/drawingml/2006/table">
            <a:tbl>
              <a:tblPr/>
              <a:tblGrid>
                <a:gridCol w="1143000"/>
                <a:gridCol w="7086600"/>
              </a:tblGrid>
              <a:tr h="368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ject Loc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a6dc6"/>
                      </a:solidFill>
                    </a:lnL>
                    <a:lnR w="4320">
                      <a:solidFill>
                        <a:srgbClr val="0a6dc6"/>
                      </a:solidFill>
                    </a:lnR>
                    <a:lnT w="4320">
                      <a:solidFill>
                        <a:srgbClr val="0a6dc6"/>
                      </a:solidFill>
                    </a:lnT>
                    <a:lnB w="4320">
                      <a:solidFill>
                        <a:srgbClr val="0a6dc6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3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dder is free to set up Projects anywhere in the Stat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ion/Project site can be changed until financial closur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a6dc6"/>
                      </a:solidFill>
                    </a:lnL>
                    <a:lnR w="4320">
                      <a:solidFill>
                        <a:srgbClr val="0a6dc6"/>
                      </a:solidFill>
                    </a:lnR>
                    <a:lnT w="4320">
                      <a:solidFill>
                        <a:srgbClr val="0a6dc6"/>
                      </a:solidFill>
                    </a:lnT>
                    <a:lnB w="4320">
                      <a:solidFill>
                        <a:srgbClr val="0a6dc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7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ject capacit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a6dc6"/>
                      </a:solidFill>
                    </a:lnL>
                    <a:lnR w="4320">
                      <a:solidFill>
                        <a:srgbClr val="0a6dc6"/>
                      </a:solidFill>
                    </a:lnR>
                    <a:lnT w="4320">
                      <a:solidFill>
                        <a:srgbClr val="0a6d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u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MW at Delivery Voltage of 33 kV at 33/11kV subst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imu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 MW (double circuit line) 220 kV Delivery Voltage at 400/220 kV subst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 Capacity Limits defined at each voltage level and at each s/s category under Annexure 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a6dc6"/>
                      </a:solidFill>
                    </a:lnL>
                    <a:lnR w="4320">
                      <a:solidFill>
                        <a:srgbClr val="0a6d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a6dc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7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connection Subst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a6dc6"/>
                      </a:solidFill>
                    </a:lnL>
                    <a:lnR w="4320">
                      <a:solidFill>
                        <a:srgbClr val="0a6dc6"/>
                      </a:solidFill>
                    </a:lnR>
                    <a:lnT w="4320">
                      <a:solidFill>
                        <a:srgbClr val="0a6dc6"/>
                      </a:solidFill>
                    </a:lnT>
                    <a:lnB w="4320">
                      <a:solidFill>
                        <a:srgbClr val="0a6dc6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859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single Project shall be connected to a single Interconnection Substation. It is the onus of the Bidder to demonstrate that Project(s) proposed have distinct boundaries, to the satisfaction of the Authorized Representativ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t any substation can have multiple projects connected to it depending on available capacity specified in the Rf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dder shall submit a List of Preferred Interconnection Substations (At least 1 and upto 10) where he intends to connect the entire Offered Capacit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ocation (in order of bid parameter) shall be done in the order of the preference lis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fter issue of LOI, Interconnection Substation cannot be change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a6dc6"/>
                      </a:solidFill>
                    </a:lnL>
                    <a:lnR w="4320">
                      <a:solidFill>
                        <a:srgbClr val="0a6dc6"/>
                      </a:solidFill>
                    </a:lnR>
                    <a:lnT w="4320">
                      <a:solidFill>
                        <a:srgbClr val="0a6dc6"/>
                      </a:solidFill>
                    </a:lnT>
                    <a:lnB w="4320">
                      <a:solidFill>
                        <a:srgbClr val="0a6dc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1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2D1C4-17DF-477D-9E4F-37D72635A6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1065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ariff, Evaluation and Pay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04920" y="609480"/>
          <a:ext cx="8686800" cy="3368880"/>
        </p:xfrm>
        <a:graphic>
          <a:graphicData uri="http://schemas.openxmlformats.org/drawingml/2006/table">
            <a:tbl>
              <a:tblPr/>
              <a:tblGrid>
                <a:gridCol w="2666880"/>
                <a:gridCol w="3200400"/>
                <a:gridCol w="2819520"/>
              </a:tblGrid>
              <a:tr h="3531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iff Options (all tariffs for evaluation and payment shall be on Tariff Year basi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3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iff Year shall mean 365 days from COD and last Tariff Year shall end on expiry of PP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ymen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e0"/>
                    </a:solidFill>
                  </a:tcPr>
                </a:tc>
              </a:tr>
              <a:tr h="16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form Tariff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dder quotes a single Quoted Tariff uniformly applicable for the entire term of PP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d Parameter is Quoted Tariff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oted Tariff shall be applicable for the entire term of the PP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Delivered energy prior to the COD of the Project shall be purchased at tariff of first Tariff Year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304920" y="4373640"/>
            <a:ext cx="8686800" cy="24541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5"/>
          <p:cNvSpPr/>
          <p:nvPr/>
        </p:nvSpPr>
        <p:spPr>
          <a:xfrm>
            <a:off x="304920" y="4038480"/>
            <a:ext cx="8686800" cy="335160"/>
          </a:xfrm>
          <a:prstGeom prst="rect">
            <a:avLst/>
          </a:prstGeom>
          <a:solidFill>
            <a:srgbClr val="e5f4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iling Tari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A38CF-52AF-429A-8AAA-C711E15598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15998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roup 1 Bids (injecting at 33/11 kV s/s) and Group 2 Bids (injecting at EHT s/s of 132/33 kV and above) shall be evaluated separately and process of allocation will be separate for these two Group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llocation will be undertaken for Group 1 Bids first, followed by Group 2 Bid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FFD8A-1C20-49FE-90EB-A160E748F2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30240" y="685800"/>
            <a:ext cx="5989680" cy="55213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striction on capacity limit for distri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5"/>
          <p:cNvSpPr/>
          <p:nvPr/>
        </p:nvSpPr>
        <p:spPr>
          <a:xfrm>
            <a:off x="6073920" y="1184400"/>
            <a:ext cx="2895480" cy="448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81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trict capacity constraint supersedes sum of all substation capac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llu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hbubnagar’s capacity for group I is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0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tal capacities of s/s (132/33 kV) under Mahbubnagar is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27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pacities shall be allocated till 100 MW and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227 MW in Mahbub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04175-DCAA-4A89-9D1C-FBB3E88116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30240" y="6186600"/>
            <a:ext cx="5913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he Authorized Representative reserves the right to change the Requisitioned Capacity as specified abo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KPMG</dc:creator>
  <dc:description/>
  <dc:language>en-US</dc:language>
  <cp:lastModifiedBy>ipc</cp:lastModifiedBy>
  <dcterms:modified xsi:type="dcterms:W3CDTF">2015-04-22T08:34:29Z</dcterms:modified>
  <cp:revision>211</cp:revision>
  <dc:subject/>
  <dc:title>Competitive bidding for procurement of 500 MW of solar power – An overview</dc:title>
</cp:coreProperties>
</file>